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283A-087B-4785-B9A6-5A32369D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9BAC-3301-41B5-9B56-FEBE4A3A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CB39-4024-4C67-8A80-9DA982F8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DDCD-B19F-4F90-AA8C-C68B7643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6927-195D-460C-B5C6-DCEF3108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C7BD-5150-48A8-B703-AB14FAF6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4A68-015F-44A5-A3DC-A914D700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8511-A464-4F27-B1E0-FCF306B6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11AC-E02F-4455-9A5E-5210D567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260E-69A4-43C0-AB8B-90B9AF7D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091B-06E0-4E65-903F-30816346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459C-04D3-4005-9E9F-423B81BB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33A8-C8B2-4B42-8CA4-92FA87DC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4F38-8C48-432D-9A10-7A2E75D3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1AF9-EFB9-42B7-B777-46712DDE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25A3-4C16-4581-A3EF-C4EC5320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0FF6-058C-44C2-BF89-633223AE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E05-0FA4-462B-B513-70D824A8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098E-BF8A-4DD2-911D-6DEB55BD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031-D934-400E-AD2E-712B392D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ADBF-CA15-486F-8C18-B3456BDB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B82-A11E-44EE-8B63-2025320D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2DBC-3E49-435B-A58D-0EE594DC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5AA-F59C-4902-BF99-9297718C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2EEC-C8E2-47CE-A2C8-C88BADD141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7F98-2FE6-4E73-856B-D3FBB79762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ing a Vision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entor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naging conflic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cilitating meetin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cision-mak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ach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ing Creat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oblem-solv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esenting inform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mpowering oth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sitive Reinforc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03:15:45Z</dcterms:created>
  <dc:creator>James Barnicle</dc:creator>
  <dc:description/>
  <dc:language>en-US</dc:language>
  <cp:lastModifiedBy>James Barnicle</cp:lastModifiedBy>
  <dcterms:modified xsi:type="dcterms:W3CDTF">2010-02-19T03:21:56Z</dcterms:modified>
  <cp:revision>1</cp:revision>
  <dc:subject/>
  <dc:title>Being a Visionary</dc:title>
</cp:coreProperties>
</file>